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0E9C-9A73-4C22-8157-6655839E3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D0AE-C1D7-4AF5-AF39-5B2AA975BC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B6FD-BDDB-4F5B-968E-56D22586F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703A-003F-4276-8DA2-C4529AE49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291E3-BC36-44E8-A023-BE0E117469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BDA36-6C68-45B3-9D97-BB56E2F496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00BF0-B0C5-4B2D-A4C3-AE3950B269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B498C-B969-417D-B1FC-80809C7E89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ACD3E-834A-48F5-A5D3-53395904ED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4E90-7549-472B-8CE5-0BF0AFC22D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3461-56F5-4D8C-8F9E-E9DBA636D6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F5ED0-B67C-4AA5-B4B8-234CEDB98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CE10-A696-449A-88E6-9E9F3498BF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24899-FDB5-4EEE-9530-A95A8A79E8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FAD25-E1BC-43F4-8F84-75EC88567B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CDB7-ED94-414D-85E8-F86F34148F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8AE72-7CBD-4D2C-B93B-86BDC031CF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14E-F07D-4DC9-BF4D-7B1C136F4D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3E7-B4F3-4B58-A227-991E355D42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7C0-6372-4A82-9074-18F9E90A88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D0F1-388F-45B5-BA1B-B543D9A06F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8639-43A1-400B-AD32-0F73B160AA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716C-1EA3-464A-8FB4-93497A3FCB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C1A-1D1B-4FDF-B66C-0F94CC8C33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69E-5D09-440D-A803-4822FBBEB8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15F-2753-40FB-B8F3-F1CF14144E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75F-25EF-4D3C-8538-6E637CC25C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B11B-78FA-4566-A8F8-6C71BE8D6B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116-74F4-435D-8A01-DA8060C74C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ACA-431E-42BD-B5DC-175D999D1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0831-1A99-4B84-8F53-1F00AD200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B031-9197-428D-9066-A0AD522B8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D412-0DBB-4D80-8830-A920CF7CE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F62EC-5319-4447-84FF-87B6E06B5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DD10-AC85-4A3F-83F2-DA554B260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FAC0-2A13-4B48-A1E1-1F01270DB6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10"/>
          <p:cNvSpPr/>
          <p:nvPr/>
        </p:nvSpPr>
        <p:spPr>
          <a:xfrm>
            <a:off x="0" y="6237360"/>
            <a:ext cx="9144000" cy="620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558ed5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172000" y="6237000"/>
            <a:ext cx="514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185C-A0C0-414D-B2B6-25A9B0E71BE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3" descr="flag_gerb"/>
          <p:cNvPicPr/>
          <p:nvPr/>
        </p:nvPicPr>
        <p:blipFill>
          <a:blip r:embed="rId2"/>
          <a:stretch/>
        </p:blipFill>
        <p:spPr>
          <a:xfrm>
            <a:off x="0" y="0"/>
            <a:ext cx="1441440" cy="765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\\Kostinv\obmen\От Пинжакова\ЛОГОТИП_ДЗ.jpg"/>
          <p:cNvPicPr/>
          <p:nvPr/>
        </p:nvPicPr>
        <p:blipFill>
          <a:blip r:embed="rId3"/>
          <a:stretch/>
        </p:blipFill>
        <p:spPr>
          <a:xfrm>
            <a:off x="8461440" y="44280"/>
            <a:ext cx="647640" cy="50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Скругленный прямоугольник 10"/>
          <p:cNvSpPr/>
          <p:nvPr/>
        </p:nvSpPr>
        <p:spPr>
          <a:xfrm>
            <a:off x="0" y="6237360"/>
            <a:ext cx="9144000" cy="620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558ed5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Picture 3" descr="flag_gerb"/>
          <p:cNvPicPr/>
          <p:nvPr/>
        </p:nvPicPr>
        <p:blipFill>
          <a:blip r:embed="rId2"/>
          <a:stretch/>
        </p:blipFill>
        <p:spPr>
          <a:xfrm>
            <a:off x="0" y="0"/>
            <a:ext cx="1441440" cy="765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\\Kostinv\obmen\От Пинжакова\ЛОГОТИП_ДЗ.jpg"/>
          <p:cNvPicPr/>
          <p:nvPr/>
        </p:nvPicPr>
        <p:blipFill>
          <a:blip r:embed="rId3"/>
          <a:stretch/>
        </p:blipFill>
        <p:spPr>
          <a:xfrm>
            <a:off x="8461440" y="44280"/>
            <a:ext cx="647640" cy="500400"/>
          </a:xfrm>
          <a:prstGeom prst="rect">
            <a:avLst/>
          </a:prstGeom>
          <a:ln w="0">
            <a:noFill/>
          </a:ln>
        </p:spPr>
      </p:pic>
      <p:sp>
        <p:nvSpPr>
          <p:cNvPr id="45" name="Скругленный прямоугольник 7"/>
          <p:cNvSpPr/>
          <p:nvPr/>
        </p:nvSpPr>
        <p:spPr>
          <a:xfrm>
            <a:off x="0" y="6237360"/>
            <a:ext cx="9144000" cy="620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558ed5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172000" y="6237000"/>
            <a:ext cx="514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8877-EB6B-4F8B-9459-4CD5A69A38E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Скругленный прямоугольник 10"/>
          <p:cNvSpPr/>
          <p:nvPr/>
        </p:nvSpPr>
        <p:spPr>
          <a:xfrm>
            <a:off x="0" y="6237360"/>
            <a:ext cx="9144000" cy="620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558ed5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3" descr="flag_gerb"/>
          <p:cNvPicPr/>
          <p:nvPr/>
        </p:nvPicPr>
        <p:blipFill>
          <a:blip r:embed="rId2"/>
          <a:stretch/>
        </p:blipFill>
        <p:spPr>
          <a:xfrm>
            <a:off x="0" y="0"/>
            <a:ext cx="1441440" cy="76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\\Kostinv\obmen\От Пинжакова\ЛОГОТИП_ДЗ.jpg"/>
          <p:cNvPicPr/>
          <p:nvPr/>
        </p:nvPicPr>
        <p:blipFill>
          <a:blip r:embed="rId3"/>
          <a:stretch/>
        </p:blipFill>
        <p:spPr>
          <a:xfrm>
            <a:off x="8461440" y="44280"/>
            <a:ext cx="647640" cy="500400"/>
          </a:xfrm>
          <a:prstGeom prst="rect">
            <a:avLst/>
          </a:prstGeom>
          <a:ln w="0">
            <a:noFill/>
          </a:ln>
        </p:spPr>
      </p:pic>
      <p:sp>
        <p:nvSpPr>
          <p:cNvPr id="88" name="Скругленный прямоугольник 7"/>
          <p:cNvSpPr/>
          <p:nvPr/>
        </p:nvSpPr>
        <p:spPr>
          <a:xfrm>
            <a:off x="0" y="6264360"/>
            <a:ext cx="9144000" cy="620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558ed5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3"/>
          </p:nvPr>
        </p:nvSpPr>
        <p:spPr>
          <a:xfrm>
            <a:off x="8172000" y="6237000"/>
            <a:ext cx="51444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524B-6D5E-455B-8C8A-F079201EDCE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Функционирование медицинских организаций 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Ханты-Мансийского автономного 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округа-Югры 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Calibri"/>
              </a:rPr>
              <a:t>в условиях преимущественно одноканального финансирования </a:t>
            </a:r>
            <a:br>
              <a:rPr sz="36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3200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Директор Департамента здравоохран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Ханты-Мансийского автономного округа-Югры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А.В. Филимоно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2136600"/>
            <a:ext cx="7715160" cy="323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Федеральный закон от 29 ноября 2010  № 326-ФЗ «Об обязательном медицинском страховании в Российской Федерации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Федеральный закон от 21.11.2011  № 323-ФЗ «Об основах охраны здоровья граждан в Российской Федерации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Постановление Правительства РФ от 22 октября 2012 № 1074 «О Программе государственных гарантий бесплатного оказания гражданам медицинской помощи на 2013 год и на плановый период 2014 и 2015 годов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Нормативно-правовая ба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Заголовок 3"/>
          <p:cNvSpPr/>
          <p:nvPr/>
        </p:nvSpPr>
        <p:spPr>
          <a:xfrm>
            <a:off x="785880" y="4929120"/>
            <a:ext cx="79819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231480"/>
            <a:ext cx="727416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Проблемы перехода на преимущественно одноканальное финансир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258920" y="2276280"/>
            <a:ext cx="73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Calibri"/>
              </a:rPr>
              <a:t>Не соответствие мощности ряда медицинских организаций </a:t>
            </a: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I</a:t>
            </a:r>
            <a:r>
              <a:rPr b="0" lang="ru-RU" sz="2600" spc="-1" strike="noStrike">
                <a:solidFill>
                  <a:srgbClr val="262626"/>
                </a:solidFill>
                <a:latin typeface="Calibri"/>
              </a:rPr>
              <a:t> и </a:t>
            </a: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II</a:t>
            </a:r>
            <a:r>
              <a:rPr b="0" lang="ru-RU" sz="2600" spc="-1" strike="noStrike">
                <a:solidFill>
                  <a:srgbClr val="262626"/>
                </a:solidFill>
                <a:latin typeface="Calibri"/>
              </a:rPr>
              <a:t> уровней объемам оказываемой медицинской помощ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Calibri"/>
              </a:rPr>
              <a:t>Отсутствие необходимых навыков у руководителей в управлении медицинскими организациями в системе ОМС</a:t>
            </a:r>
            <a:r>
              <a:rPr b="0" lang="en-US" sz="2600" spc="-1" strike="noStrike">
                <a:solidFill>
                  <a:srgbClr val="262626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4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62626"/>
                </a:solidFill>
                <a:latin typeface="Calibri"/>
              </a:rPr>
              <a:t>Отсутствие единых подходов к тарифообразованию в Российской Федерац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35280" y="87120"/>
            <a:ext cx="626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262626"/>
                </a:solidFill>
                <a:latin typeface="Calibri"/>
              </a:rPr>
              <a:t>Пути решения проблем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258560" y="1267920"/>
            <a:ext cx="7489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24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Реструктуризация сети медицинских организаций 1 уровня (укрупнение медицинских организаций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Увеличены тарифы на оказание медицинской помощи медицинским организациям </a:t>
            </a:r>
            <a:r>
              <a:rPr b="0" lang="en-US" sz="2500" spc="-1" strike="noStrike">
                <a:solidFill>
                  <a:srgbClr val="262626"/>
                </a:solidFill>
                <a:latin typeface="Calibri"/>
              </a:rPr>
              <a:t>I</a:t>
            </a: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 уровня в сельской местност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4 участковые больницы, находящиеся в труднодоступных населенных пунктах, а также 69 ФАПов переведены на бюджетное финансирование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24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262626"/>
                </a:solidFill>
                <a:latin typeface="Calibri"/>
              </a:rPr>
              <a:t>Ежеквартальные обучающие семинары для руководителей и работников медицинских организаци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840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r>
              <a:rPr b="0" lang="ru-RU" sz="2800" spc="-1" strike="noStrike">
                <a:solidFill>
                  <a:srgbClr val="262626"/>
                </a:solidFill>
                <a:latin typeface="Calibri"/>
              </a:rPr>
              <a:t>Способы оплаты медицинской помощи в системе ОМС в 2013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00000" y="2204640"/>
            <a:ext cx="7848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alibri"/>
              </a:rPr>
              <a:t>Скорая медицинская помощь – подушевые нормативы финансир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alibri"/>
              </a:rPr>
              <a:t>Амбулаторно-поликлиническая помощь - посещ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alibri"/>
              </a:rPr>
              <a:t>Стационарная помощь – по клинико-статистическим группам (КСГ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alibri"/>
              </a:rPr>
              <a:t>Дневной стационар - КС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424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alibri"/>
              </a:rPr>
              <a:t>Дополнительные виды медицинской помощи в системе ОМС с 1 января 2014 г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42920" y="1700280"/>
            <a:ext cx="7416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Оказание скорой медицинской помощи гражданам, не идентифицированным и не застрахованным по ОМС при заболеваниях и состояниях, не включенных в базовую программу ОМ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Оказание паллиативной медицинской помощ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</a:rPr>
              <a:t>Оказание специализированной медицинской помощи, которая ранее была включена в перечень высокотехнологичной медицинской помощи, в соответствии с приказами Минздрава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нение Указа</a:t>
            </a:r>
            <a:r>
              <a:rPr b="1" lang="ru-RU" sz="2000" spc="-1" strike="noStrike">
                <a:solidFill>
                  <a:srgbClr val="102c34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02c34"/>
                </a:solidFill>
                <a:latin typeface="Calibri"/>
                <a:ea typeface="Times New Roman"/>
              </a:rPr>
              <a:t>Президента Российской Федерации от 7 мая 2012 года № 597 «О мероприятиях по реализации государственной социальной политики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 состоянию на 1 ноября 2013 года по Ханты-Мансийскому автономному округу - Юг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Содержимое 3" descr=""/>
          <p:cNvPicPr/>
          <p:nvPr/>
        </p:nvPicPr>
        <p:blipFill>
          <a:blip r:embed="rId1"/>
          <a:stretch/>
        </p:blipFill>
        <p:spPr>
          <a:xfrm>
            <a:off x="428760" y="2857680"/>
            <a:ext cx="4066920" cy="314316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4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4286160" cy="2643120"/>
          </a:xfrm>
          <a:prstGeom prst="rect">
            <a:avLst/>
          </a:prstGeom>
          <a:ln w="0">
            <a:noFill/>
          </a:ln>
        </p:spPr>
      </p:pic>
      <p:sp>
        <p:nvSpPr>
          <p:cNvPr id="144" name="Заголовок 1"/>
          <p:cNvSpPr/>
          <p:nvPr/>
        </p:nvSpPr>
        <p:spPr>
          <a:xfrm>
            <a:off x="5000760" y="2071800"/>
            <a:ext cx="3143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редняя заработная плата среднего медицинского (фармацевтического) персонала, руб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928800" y="2214720"/>
            <a:ext cx="3176640" cy="12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редняя заработная плата врачей и работников медицинских организаций, имеющих высшее медицинское (фармацевтическое) или иное высшее образование, руб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                                      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нение Указа</a:t>
            </a:r>
            <a:r>
              <a:rPr b="1" lang="ru-RU" sz="2000" spc="-1" strike="noStrike">
                <a:solidFill>
                  <a:srgbClr val="102c34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02c34"/>
                </a:solidFill>
                <a:latin typeface="Calibri"/>
                <a:ea typeface="Times New Roman"/>
              </a:rPr>
              <a:t>Президента Российской Федерации от 7 мая 2012 года № 597 «О мероприятиях по реализации государственной социальной политики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по состоянию на 1 ноября 2013 года по Ханты-Мансийскому автономному округу - Юг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Заголовок 1"/>
          <p:cNvSpPr/>
          <p:nvPr/>
        </p:nvSpPr>
        <p:spPr>
          <a:xfrm>
            <a:off x="2214720" y="1785960"/>
            <a:ext cx="485748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PMingLiU-ExtB"/>
              </a:rPr>
              <a:t>Средняя заработная плата младшего медицинского  персонала, руб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PMingLiU-ExtB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Содержимое 3" descr=""/>
          <p:cNvPicPr/>
          <p:nvPr/>
        </p:nvPicPr>
        <p:blipFill>
          <a:blip r:embed="rId1"/>
          <a:stretch/>
        </p:blipFill>
        <p:spPr>
          <a:xfrm>
            <a:off x="1857240" y="2786040"/>
            <a:ext cx="57866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187280" y="1557360"/>
            <a:ext cx="684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62626"/>
                </a:solidFill>
                <a:latin typeface="Calibri"/>
              </a:rPr>
              <a:t>Благодарим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0:00:05Z</dcterms:created>
  <dc:creator>taranenko</dc:creator>
  <dc:description/>
  <dc:language>en-US</dc:language>
  <cp:lastModifiedBy>SklyarovaMS</cp:lastModifiedBy>
  <cp:lastPrinted>2013-11-30T09:15:18Z</cp:lastPrinted>
  <dcterms:modified xsi:type="dcterms:W3CDTF">2013-12-03T11:25:09Z</dcterms:modified>
  <cp:revision>115</cp:revision>
  <dc:subject/>
  <dc:title>Модель окладной оплаты труда работников здравоохранения в Ханты-Мансийском автономном округе-Югре</dc:title>
</cp:coreProperties>
</file>